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7C4-F5B0-4FC6-9C56-08071EEC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75A-026B-4C99-9500-CCE8B7DB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948-CC4B-412A-ABFD-5A0EAA6C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8F3-6D3D-4FB9-83CD-E6402DBA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5DD-435E-41DE-A6D0-5081F42B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A40-F7B9-42C0-BD9F-46C28DEC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195-F628-4780-A91B-50279BFA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7A7-44E6-42B0-A696-FDF2066F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2E8-559A-46C8-9A86-7F578370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D1E-84D5-4ADC-BDDF-0E820AB0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D0B-071A-4D41-A3B1-AD088575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3DB-22E6-4B54-9E9B-EFD04D80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61CC-A080-4A7B-92A2-2EBAECBAE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l6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2" name="bl7_1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43" name="bl8_1" descr=""/>
          <p:cNvPicPr/>
          <p:nvPr/>
        </p:nvPicPr>
        <p:blipFill>
          <a:blip r:embed="rId3"/>
          <a:stretch/>
        </p:blipFill>
        <p:spPr>
          <a:xfrm>
            <a:off x="609480" y="373536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4" name="bl9_1" descr=""/>
          <p:cNvPicPr/>
          <p:nvPr/>
        </p:nvPicPr>
        <p:blipFill>
          <a:blip r:embed="rId4"/>
          <a:stretch/>
        </p:blipFill>
        <p:spPr>
          <a:xfrm>
            <a:off x="4876920" y="373536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72840" y="243828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6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39920" y="243828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7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2840" y="571500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8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39920" y="5715000"/>
            <a:ext cx="925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9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l10_2" descr=""/>
          <p:cNvPicPr/>
          <p:nvPr/>
        </p:nvPicPr>
        <p:blipFill>
          <a:blip r:embed="rId1"/>
          <a:stretch/>
        </p:blipFill>
        <p:spPr>
          <a:xfrm>
            <a:off x="609480" y="45864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2840" y="24382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0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l11_1new" descr=""/>
          <p:cNvPicPr/>
          <p:nvPr/>
        </p:nvPicPr>
        <p:blipFill>
          <a:blip r:embed="rId2"/>
          <a:stretch/>
        </p:blipFill>
        <p:spPr>
          <a:xfrm>
            <a:off x="4952880" y="45864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30640" y="24382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1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l12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54" name="BL13_1withtube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7240" y="5715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2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6960" y="56386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3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l14withtube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560" y="23623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4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lx_2_17nov_alfa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316640" y="23623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5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ly_2_17nov_beta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560" y="55627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6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5360" y="632448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f de nanotube echt op 2 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l17nov_links_1" descr=""/>
          <p:cNvPicPr/>
          <p:nvPr/>
        </p:nvPicPr>
        <p:blipFill>
          <a:blip r:embed="rId4"/>
          <a:stretch/>
        </p:blipFill>
        <p:spPr>
          <a:xfrm>
            <a:off x="4876920" y="3733920"/>
            <a:ext cx="3655800" cy="2741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92960" y="563868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5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bl17nov_2de_van_rechts_2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56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7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l17nov_rechts_1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3064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8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bl19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pic>
        <p:nvPicPr>
          <p:cNvPr id="71" name="bl20_1" descr=""/>
          <p:cNvPicPr/>
          <p:nvPr/>
        </p:nvPicPr>
        <p:blipFill>
          <a:blip r:embed="rId4"/>
          <a:stretch/>
        </p:blipFill>
        <p:spPr>
          <a:xfrm>
            <a:off x="4876920" y="3733920"/>
            <a:ext cx="3655800" cy="2741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39520" y="556272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19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40320" y="54864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0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8760" y="640080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f de nanotube echt op 1 z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bl24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9520" y="2286000"/>
            <a:ext cx="1078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4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bl23withtube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316280" y="2286000"/>
            <a:ext cx="106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23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33440" y="3089160"/>
            <a:ext cx="28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e labjournaal All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io%2022_1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3656160" cy="2741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820600" y="5562720"/>
            <a:ext cx="123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22_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533520" y="3657600"/>
            <a:ext cx="3655800" cy="2741760"/>
            <a:chOff x="533520" y="3657600"/>
            <a:chExt cx="3655800" cy="2741760"/>
          </a:xfrm>
        </p:grpSpPr>
        <p:pic>
          <p:nvPicPr>
            <p:cNvPr id="83" name="TM25_withtube" descr=""/>
            <p:cNvPicPr/>
            <p:nvPr/>
          </p:nvPicPr>
          <p:blipFill>
            <a:blip r:embed="rId1"/>
            <a:stretch/>
          </p:blipFill>
          <p:spPr>
            <a:xfrm>
              <a:off x="533520" y="365760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125880" y="5562720"/>
              <a:ext cx="942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M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TM24withtube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106960" y="2286000"/>
            <a:ext cx="94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TM23withtube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3655800" cy="274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97280" y="2362320"/>
            <a:ext cx="94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buckling_for_shortening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0:09:42Z</dcterms:created>
  <dc:creator>Dionne</dc:creator>
  <dc:description/>
  <dc:language>en-US</dc:language>
  <cp:lastModifiedBy>Dionne</cp:lastModifiedBy>
  <dcterms:modified xsi:type="dcterms:W3CDTF">2003-11-20T10:56:35Z</dcterms:modified>
  <cp:revision>13</cp:revision>
  <dc:subject/>
  <dc:title>PowerPoint Presentation</dc:title>
</cp:coreProperties>
</file>